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5825-8A03-40ED-A1FF-BFC1111C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154B-AFA7-4E3D-ABF9-9DA56BF6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C26-FADA-4C80-84FE-F5D5ED24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225-9F06-447A-8CA8-E8D6C39E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B2C9-04C0-46A5-9ACF-5F98B081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1C22-D542-4D16-B3AA-4C5FE74A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3602-09A1-4535-B168-C490CBA5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054B-E1C1-469E-961C-A246E8F4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5B9-5340-4010-83AE-2993ED62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70EC-1007-44F2-9FC2-59EF8FDF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0EA-4750-441E-8AD7-7DC3442C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E11A-2BB7-41F5-B33A-AC33A4F6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55D6-EEBD-4CA9-9338-5F02BDDAF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268010NdkkKZEqsF_ph" descr=""/>
          <p:cNvPicPr/>
          <p:nvPr/>
        </p:nvPicPr>
        <p:blipFill>
          <a:blip r:embed="rId1"/>
          <a:stretch/>
        </p:blipFill>
        <p:spPr>
          <a:xfrm>
            <a:off x="-335268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67280" y="304920"/>
            <a:ext cx="3276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اعتمادِكَ يا ربّ في نهرِ الأردن، ظهرَ السجودُ للثالوث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8254350zDFGKi_ph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81680" y="304920"/>
            <a:ext cx="205740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إنَّ صوتَ الآبِ كان يشهدُ لك، مُسَمِّياً إيَّاكَ ابناً محبوباً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56280134MxDDpx_ph" descr=""/>
          <p:cNvPicPr/>
          <p:nvPr/>
        </p:nvPicPr>
        <p:blipFill>
          <a:blip r:embed="rId1"/>
          <a:stretch/>
        </p:blipFill>
        <p:spPr>
          <a:xfrm>
            <a:off x="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81680" y="457200"/>
            <a:ext cx="2362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لروحُ بهيئةِ حمامة يُؤيِّدُ حقيقةَ الكلمة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ar-S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31655244OiypAPuOSV_ph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0" y="0"/>
            <a:ext cx="190512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ا من ظهرَ وأنارَ العالم، أيها المسيحُ الإلهُ المجدُ لك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9:42:12Z</dcterms:created>
  <dc:creator>SUZANNE.MD</dc:creator>
  <dc:description/>
  <dc:language>en-US</dc:language>
  <cp:lastModifiedBy>USER</cp:lastModifiedBy>
  <dcterms:modified xsi:type="dcterms:W3CDTF">2003-01-07T16:12:32Z</dcterms:modified>
  <cp:revision>3</cp:revision>
  <dc:subject/>
  <dc:title>PowerPoint Presentation</dc:title>
</cp:coreProperties>
</file>